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058F-C663-45BC-BE3F-672C5199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6A7A-5ED2-453C-829C-F4B63C06461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661-2C5D-4C9B-B759-2F79360DCA4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416D-D097-4613-9E5B-A2292399EC3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5C8D-FCE2-4BA6-8E79-D17FFD9E0B8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FB9-A307-40A6-886A-1A154F2B33A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C22-01AB-42F6-84EC-F3AA8B6611A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2CB-E83C-4BE5-AD81-7E609FE65D2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4426-2067-4F60-A4B3-4FF80630F41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FC12-F668-48F7-AE6B-B02EC3DD41F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9F8-BE85-4AFE-8F93-C4D9BD220B4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6B4-AF55-46D1-A161-426A1011680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DD64-F5F7-43C4-8D08-DBAAC7179F1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B16-6CEA-4522-906C-F1ECD7460BC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B4D1-B22E-4CF3-8AC0-90532EB1A09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67C-7B4B-48E4-8CB0-1C9AA080516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DE39-957B-4C24-8F58-E3B99A22E30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D7AA-62FC-471D-BD91-C2E773BDF8C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9EB-E2C9-4A37-B8E5-0A7BF8F6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D52-17B6-4A02-B5CB-F1FE6E1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D54-C661-4BFF-A026-3FF2EB44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47D-84ED-44A0-A279-CF887A93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07F-772F-4A23-80B0-81F5E666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C3E-C36B-4E66-B948-9246D36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9499-13BA-466E-A84F-2DCEE6FC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42E7-C1EA-438E-AECD-F63FD58B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2ED-6FBE-4CA1-B0B3-B2BBA62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2AF7-0294-46FA-B85D-4073AD2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96E9-10F6-480C-AEC2-9F17F1E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224-43EB-480D-BD22-830A7897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B6BE-8368-41D6-A14B-B12C195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9FDE-1F42-4E36-87DC-9949CFA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AB8B-460D-48E5-8B5A-8D9D74C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24A-383E-4541-98C9-D40F3157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0FC-E2C2-4392-8242-EB6EC314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F3E-8370-4DD8-A8F5-44FA19D5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0BF-2970-4364-86D0-B8EC026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CEB-DD35-4F7B-AE7D-44921FE4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0DA-415E-4F83-AFBE-AC3717CD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11C-19FF-4C6D-9D6D-2C218A1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400-4904-4201-9162-3A1338F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B28-35F5-440C-A3F3-EAF5FD0D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6A6-F1A1-48EB-A72F-AFB3F4A37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3813-EDE6-4F57-B58F-6ED4FEEA1C14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Email Session 5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Advanced Options in eChalk Email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Jigsaw Activity in 3 group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plore General Option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plore Storage Spac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Explore Auto Forward/ Repl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ithin the category your group is assigned, change each one of the specific settings. Don’t forget to save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oes each setting do?  How does it affect your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advantages/ disadvantages of each sett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r group find ou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was the purpose of each setting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- Group 1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neral Option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r group find ou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was the purpose of each setting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- Group 2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(Storage Space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r group find ou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was the purpose of each setting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the advantages/ disadvantages of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- Group 3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(Auto Forward/ Reply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 are other options you can set in Write Mai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5867640" cy="288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609480" y="5562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does each setting do? When would you use each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Right Arrow 6"/>
          <p:cNvSpPr/>
          <p:nvPr/>
        </p:nvSpPr>
        <p:spPr>
          <a:xfrm rot="17899200">
            <a:off x="6861960" y="4489920"/>
            <a:ext cx="796680" cy="4842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Right Arrow 7"/>
          <p:cNvSpPr/>
          <p:nvPr/>
        </p:nvSpPr>
        <p:spPr>
          <a:xfrm rot="18024600">
            <a:off x="6183720" y="449208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Right Arrow 8"/>
          <p:cNvSpPr/>
          <p:nvPr/>
        </p:nvSpPr>
        <p:spPr>
          <a:xfrm rot="17937600">
            <a:off x="4941000" y="448380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Right Arrow 9"/>
          <p:cNvSpPr/>
          <p:nvPr/>
        </p:nvSpPr>
        <p:spPr>
          <a:xfrm rot="18235800">
            <a:off x="3911040" y="4489920"/>
            <a:ext cx="796680" cy="4842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you help others personalize their email settings to make the most sense for the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you help others customize their email setting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oday we will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ustomize our email sett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tions Over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115320" cy="28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4" descr=""/>
          <p:cNvPicPr/>
          <p:nvPr/>
        </p:nvPicPr>
        <p:blipFill>
          <a:blip r:embed="rId2"/>
          <a:stretch/>
        </p:blipFill>
        <p:spPr>
          <a:xfrm>
            <a:off x="1219320" y="1933560"/>
            <a:ext cx="1057320" cy="2943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76320" y="2971800"/>
            <a:ext cx="1066680" cy="642600"/>
          </a:xfrm>
          <a:prstGeom prst="rect">
            <a:avLst/>
          </a:prstGeom>
          <a:solidFill>
            <a:srgbClr val="212164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Click Option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Right Arrow 6"/>
          <p:cNvSpPr/>
          <p:nvPr/>
        </p:nvSpPr>
        <p:spPr>
          <a:xfrm rot="2895600">
            <a:off x="604080" y="3795480"/>
            <a:ext cx="79560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010280" y="2286000"/>
            <a:ext cx="1828800" cy="338580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General Options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Use to set incoming &amp; outgoing mail preferences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Security Settings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Settings are already configured for NYC DO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tions Over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5962680" cy="3971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6477120" y="1905120"/>
            <a:ext cx="2286000" cy="439128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Storage Space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Set preferences for saving &amp; deleting messages (to maximize space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Message Signature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Design your signature to include on outgoing mail (and set it to always be included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What information should your signature include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tions Over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395280" y="1981080"/>
            <a:ext cx="6634080" cy="3400560"/>
            <a:chOff x="395280" y="1981080"/>
            <a:chExt cx="6634080" cy="3400560"/>
          </a:xfrm>
        </p:grpSpPr>
        <p:pic>
          <p:nvPicPr>
            <p:cNvPr id="117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1981080"/>
              <a:ext cx="663408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456840" y="2438280"/>
              <a:ext cx="1600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9" name="Straight Connector 7"/>
            <p:cNvSpPr/>
            <p:nvPr/>
          </p:nvSpPr>
          <p:spPr>
            <a:xfrm flipH="1" flipV="1">
              <a:off x="456480" y="2666880"/>
              <a:ext cx="2438280" cy="1440"/>
            </a:xfrm>
            <a:prstGeom prst="line">
              <a:avLst/>
            </a:prstGeom>
            <a:ln w="9360">
              <a:solidFill>
                <a:srgbClr val="bdc5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  <p:sp>
        <p:nvSpPr>
          <p:cNvPr id="120" name="TextBox 3"/>
          <p:cNvSpPr/>
          <p:nvPr/>
        </p:nvSpPr>
        <p:spPr>
          <a:xfrm>
            <a:off x="6477120" y="1981080"/>
            <a:ext cx="2361960" cy="292860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Auto Forward /Reply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Set preferences to automatically forward or reply to email. Why might you set these option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0ece6"/>
                </a:solidFill>
                <a:uFillTx/>
                <a:latin typeface="Arial"/>
              </a:rPr>
              <a:t>Advanced Options</a:t>
            </a: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0ece6"/>
                </a:solidFill>
                <a:latin typeface="Arial"/>
              </a:rPr>
              <a:t>(see descriptions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Bent Arrow 9"/>
          <p:cNvSpPr/>
          <p:nvPr/>
        </p:nvSpPr>
        <p:spPr>
          <a:xfrm rot="10800000">
            <a:off x="7924680" y="4723920"/>
            <a:ext cx="609840" cy="365400"/>
          </a:xfrm>
          <a:prstGeom prst="pi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et’s Change an Op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reate your Signatu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229680" indent="-2296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d a hello email to your partner (include signature)- how does your signature look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4" name="Picture 1025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734000" cy="2800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26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162240" cy="65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27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542880" cy="228600"/>
          </a:xfrm>
          <a:prstGeom prst="rect">
            <a:avLst/>
          </a:prstGeom>
          <a:ln w="0">
            <a:noFill/>
          </a:ln>
        </p:spPr>
      </p:pic>
      <p:sp>
        <p:nvSpPr>
          <p:cNvPr id="127" name="Right Arrow 6"/>
          <p:cNvSpPr/>
          <p:nvPr/>
        </p:nvSpPr>
        <p:spPr>
          <a:xfrm rot="8917800">
            <a:off x="6392160" y="4209840"/>
            <a:ext cx="79524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Right Arrow 7"/>
          <p:cNvSpPr/>
          <p:nvPr/>
        </p:nvSpPr>
        <p:spPr>
          <a:xfrm rot="7870200">
            <a:off x="5684760" y="2120400"/>
            <a:ext cx="797040" cy="48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Right Arrow 8"/>
          <p:cNvSpPr/>
          <p:nvPr/>
        </p:nvSpPr>
        <p:spPr>
          <a:xfrm rot="1440600">
            <a:off x="891720" y="341784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76320" y="3048120"/>
            <a:ext cx="2361960" cy="36828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Type your signatur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6553080" y="1828800"/>
            <a:ext cx="2362320" cy="119124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Select Rich Text Editor to change the appearance of your text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Right Arrow 11"/>
          <p:cNvSpPr/>
          <p:nvPr/>
        </p:nvSpPr>
        <p:spPr>
          <a:xfrm rot="8457000">
            <a:off x="2196720" y="3853800"/>
            <a:ext cx="79704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3124080" y="3200400"/>
            <a:ext cx="2362320" cy="119124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Do you want to automatically insert your  signature on all outgoing mail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6248520" y="3657600"/>
            <a:ext cx="2514600" cy="368280"/>
          </a:xfrm>
          <a:prstGeom prst="rect">
            <a:avLst/>
          </a:prstGeom>
          <a:solidFill>
            <a:srgbClr val="212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Don’t forget to save it!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3-08T21:44:11Z</dcterms:modified>
  <cp:revision>31</cp:revision>
  <dc:subject/>
  <dc:title>Workshop Title</dc:title>
</cp:coreProperties>
</file>